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BD4D-7421-475C-9F1C-D9FF5F3367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d signal is ideal, so in order to match the timing of the two signals, the SE signal is delayed so the data from the BL/BLB is ready to be accepted by the Sense 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9680-8325-4239-A844-11FF5E4A3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0D76-E928-419C-A9C4-CD6EB19DD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04BC-D465-4F47-A83C-A0B7E286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6F9D-9391-4EAB-96C7-767E3B0D6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99EC-E983-46E3-98D3-018048AE5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64F4-C09F-4737-B455-DB6D8297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A2B8-C217-4E5E-8DF1-13E8E064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326A-A6AD-4F78-88FE-245F54C7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DEB0-01AB-48CB-8F41-DFC8DC8E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D5ED-60A8-4CDA-B0B6-F3F24902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A329-FEBF-476F-A3B2-C7B97045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22F8-4655-404F-8170-4A29172F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FF52-99B1-40FD-AA89-BC3A9E8C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B66F-3EA3-4261-80D1-CEF47608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1AA0-2FE7-47B6-99EC-5FF6FF9A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0BA8-38A6-4521-B5F7-797D3AFE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E392-3AFF-492B-A319-B5AEB1BA8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7375-C7E3-4445-A365-C3BB6CF7D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4B0EE0-8232-4661-B4F2-9CEF9EBE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CC3C97-F41B-4A8F-AC27-B5AD265B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3B0575-02ED-41BF-8921-8BAC7D72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CE465C-AAC4-424D-9851-2202A477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5E4C64-79DB-4A2C-AD8D-45FDB803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5C35-7B22-40E5-A78D-B42359E8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055AC1-1F9A-456B-8D51-E9CA98E1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E08FCC-299E-434E-90FA-0042E8A6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3BFEEB-758F-4B94-B3CB-D50B4AF7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5AA278-6D21-406E-87CF-512C9A29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06B4D4-45B8-4155-824E-79470AEF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165AA8-71D6-4632-94FF-B6FD4B918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8B634C-83A7-4C07-95C4-B82724F9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505F6-3003-4235-B9F2-BDD76506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383B2-3723-49AE-B3E1-DC0AC626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93476-BB49-44FC-B122-C7D5173C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65AA-8285-43BA-98E5-74E34B51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F68FE-C84D-4FA9-A7E0-922C8100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8646B-577A-480C-83AF-884BB2DC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7D8AD-6B4A-49B0-99A8-2ED0C677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1E61A-D72C-43B1-9320-E51AA53D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6C86D-470B-4C3E-B5A1-D2F2EF94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B2E76-AE65-4791-B802-D7D54D9B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FAFC6-D73E-4FAC-A7AC-2DCD675C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456CB-C216-4CCE-9D93-C4A7F5AB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5999C-FAA1-4178-B5E7-BF0F844C8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B6EB15-9519-424F-83B6-8A28D289B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097A-7C17-4134-8C5F-C3F05AAC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F83AC6-7E21-447A-9A3F-BE26A272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941012-F1EF-4657-B643-DEAFBFE5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724F5F-8CD5-474E-A68D-22056B94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E7DC10-AB56-4666-8595-F7640266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D46EFC-98F8-42BB-8B03-1A335841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23E05E-9EBB-4BAF-B409-7C403061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789027-8CA1-4634-8DB8-38C222AF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C2E8B4-573D-4C7C-B27D-83AE021D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EAF991-1153-4229-ACD5-F006E259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F35940-8DEC-4E20-944E-17BCAED3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97B8-5DDC-4F13-B410-0CBA8AE1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3D191C-B356-4A60-A004-D8A5AEAD9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444F3F-535E-44D9-8B3A-A2040152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0052D0-DB19-44E1-AB71-013C9FA9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5419CE-0CBF-448B-8D40-8F8F75E3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3DC319-A35D-4CB7-8006-49806644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2E8A9A-A9EC-405D-B96D-B7558C6C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BB0A76-49A7-4624-95ED-E4475A08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986F2D-7106-44FD-AB8C-3069E4BF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7712C6-03EA-4263-964D-0787B718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D0546C-CAD7-4064-8911-40B9BA1E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5BF5-35D6-4AA3-B517-E6F694EE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087F17-AA55-4492-A4F8-57D9CF46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E66000-4FC5-4C37-9538-4DCE47C2E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DF0357-99F4-41B9-A0BC-16B15DD5C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7263FB-948A-4180-897E-8F48E1B0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7DAB92-7E98-47D1-BCBA-953A5579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A86EA4-C8B9-411C-802D-2B0C55CD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40CE43-F696-4ECE-B306-A6610E8A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4653C7-E670-41DF-995C-A9083E5D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A7CE08-0520-4296-A1AC-96543204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70926D-B979-4033-8888-5D9BC4F1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0172-1BD5-4B23-BE6C-BA0B5646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A7023D-A3CF-47DF-A719-96409196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B3E4FD-B21A-484F-A995-BBF3C70B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B0B340-5560-4FEC-BA5A-3A4709B9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DE08A6-E81E-470E-AAE7-4737B734D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787585-0196-4E74-8521-AB5956A8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25A7-E8AF-4C16-AFCC-3A2476E6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50D3-5FDA-45ED-81D4-96BECF90DB1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F26C-ABF3-4483-8F37-001C2F04999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03DC-E8D5-4C33-BF17-74286E0893B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16A5-690D-4E6B-A3AD-462855F5B6E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F023-75E0-4346-8936-30C831E2276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0260-A92D-42FC-9D59-3C08AA538A1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DD5C-FD6F-405A-BFD1-F13C7CE2FAB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200040"/>
            <a:ext cx="6172200" cy="18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DESIGNING A LOW POWER SRAM FOR PICO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ECE4332 : Team 4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Sharif Morad, Maxwell Martin, Jaleesa Boykin, Marc Hal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December 2</a:t>
            </a:r>
            <a:r>
              <a:rPr b="1" lang="en-US" sz="1800" spc="-1" strike="noStrike" baseline="30000">
                <a:solidFill>
                  <a:srgbClr val="575f6d"/>
                </a:solidFill>
                <a:latin typeface="Century Schoolbook"/>
              </a:rPr>
              <a:t>nd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2009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TextBox 3"/>
          <p:cNvSpPr/>
          <p:nvPr/>
        </p:nvSpPr>
        <p:spPr>
          <a:xfrm>
            <a:off x="2743200" y="13716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LOVE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LSI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” ~</a:t>
            </a: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Benton Calhoun, August 25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Century Schoolbook"/>
              </a:rPr>
              <a:t>th</a:t>
            </a: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 2009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FURTHER OPTIMIZATION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ower VD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5V to 2.5V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duce Clock perio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duce ratio width of pre-charge transistors to data write transisto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ock signal buffer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Used FO4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AYOU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600200"/>
            <a:ext cx="373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ed past desig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tilized methods to save are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irror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inimum sized gap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rcRect l="12292" t="12681" r="5951" b="8186"/>
          <a:stretch/>
        </p:blipFill>
        <p:spPr>
          <a:xfrm>
            <a:off x="4060800" y="1143000"/>
            <a:ext cx="4492800" cy="35053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"/>
          <p:cNvPicPr/>
          <p:nvPr/>
        </p:nvPicPr>
        <p:blipFill>
          <a:blip r:embed="rId2"/>
          <a:srcRect l="0" t="0" r="11113" b="10527"/>
          <a:stretch/>
        </p:blipFill>
        <p:spPr>
          <a:xfrm>
            <a:off x="533520" y="4267080"/>
            <a:ext cx="3225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IMUL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mulated model of entire arra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tracted bit line and word line R/C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ased on layout lengths/width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ested and verified functionality 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rocess corners (TT, FF, SS, SF, F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ifferent voltages (2.5V, 5V, 5.5V, 4.5V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emperature (50C, 27C, 0C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3"/>
          <p:cNvSpPr/>
          <p:nvPr/>
        </p:nvSpPr>
        <p:spPr>
          <a:xfrm>
            <a:off x="2590920" y="838080"/>
            <a:ext cx="3581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Write 1, Read 1, Write 0 at TT, 2.5V (nominal), 27°C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7" descr=""/>
          <p:cNvPicPr/>
          <p:nvPr/>
        </p:nvPicPr>
        <p:blipFill>
          <a:blip r:embed="rId1"/>
          <a:stretch/>
        </p:blipFill>
        <p:spPr>
          <a:xfrm>
            <a:off x="533520" y="1515960"/>
            <a:ext cx="7467480" cy="5342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ESUL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ETRIC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verage Power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~68.916mW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lay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72.18ns (worst case delay for read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tal Are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pproximately .524mm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wer Metric: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179633.89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(m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*ns*m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ALLENG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radeoff decis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hich knobs to turn and amount of sensitivit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ring/Layou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ook a long time, changing design was difficul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KILL may have helpe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gnitude of SRA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roubleshooting Cadenc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icking to schedule/time constrai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rver crash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09680" y="24379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75f6d"/>
                </a:solidFill>
                <a:latin typeface="Century Schoolbook"/>
              </a:rPr>
              <a:t>QUESTIONS?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ESIGN GOAL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in metric for low power 1Mb SRAM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(Total Power)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* Delay * Area  = (mW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*ns*mm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quirement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32 bit word size for read or wri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puts: Address bits, data in, read, write, CLK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utputs: data ou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unctionality at all process corners with various temperatur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RRAY ARCHITECTUR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3429000" y="1523880"/>
            <a:ext cx="5308560" cy="40006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380880" y="1600200"/>
            <a:ext cx="3276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6 block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8 words/block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256 x 256 bit cells per block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lock Pre-charg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ierarchical W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orted BLs/BLB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nse Amp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IT CELL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 xtor bitcel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lculations and vigorous testing to minimize widt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426708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ECODER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5238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lock Select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ierarchical W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aves Power and Dela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coder Enable Selec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aves Powe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448080" cy="25509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4038480" y="4648320"/>
            <a:ext cx="2667240" cy="1947600"/>
          </a:xfrm>
          <a:prstGeom prst="rect">
            <a:avLst/>
          </a:prstGeom>
          <a:ln w="0">
            <a:noFill/>
          </a:ln>
        </p:spPr>
      </p:pic>
      <p:cxnSp>
        <p:nvCxnSpPr>
          <p:cNvPr id="373" name="Elbow Connector 8"/>
          <p:cNvCxnSpPr/>
          <p:nvPr/>
        </p:nvCxnSpPr>
        <p:spPr>
          <a:xfrm flipV="1" rot="16200000">
            <a:off x="5218920" y="4533120"/>
            <a:ext cx="1524600" cy="686520"/>
          </a:xfrm>
          <a:prstGeom prst="bentConnector3">
            <a:avLst>
              <a:gd name="adj1" fmla="val 69792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4" name="Elbow Connector 11"/>
          <p:cNvCxnSpPr/>
          <p:nvPr/>
        </p:nvCxnSpPr>
        <p:spPr>
          <a:xfrm flipH="1" flipV="1" rot="5400000">
            <a:off x="5142240" y="3999960"/>
            <a:ext cx="991440" cy="3960"/>
          </a:xfrm>
          <a:prstGeom prst="bentConnector3">
            <a:avLst>
              <a:gd name="adj1" fmla="val 49981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5" name="Elbow Connector 37"/>
          <p:cNvCxnSpPr/>
          <p:nvPr/>
        </p:nvCxnSpPr>
        <p:spPr>
          <a:xfrm flipH="1" flipV="1" rot="5400000">
            <a:off x="6095520" y="5410440"/>
            <a:ext cx="456480" cy="3960"/>
          </a:xfrm>
          <a:prstGeom prst="bentConnector3">
            <a:avLst>
              <a:gd name="adj1" fmla="val 4996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76" name="Straight Arrow Connector 39"/>
          <p:cNvCxnSpPr/>
          <p:nvPr/>
        </p:nvCxnSpPr>
        <p:spPr>
          <a:xfrm flipV="1">
            <a:off x="6321960" y="4039560"/>
            <a:ext cx="3960" cy="1143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77" name="Picture 4" descr=""/>
          <p:cNvPicPr/>
          <p:nvPr/>
        </p:nvPicPr>
        <p:blipFill>
          <a:blip r:embed="rId3"/>
          <a:stretch/>
        </p:blipFill>
        <p:spPr>
          <a:xfrm>
            <a:off x="990720" y="3657600"/>
            <a:ext cx="3516120" cy="2209680"/>
          </a:xfrm>
          <a:prstGeom prst="rect">
            <a:avLst/>
          </a:prstGeom>
          <a:ln w="0">
            <a:noFill/>
          </a:ln>
        </p:spPr>
      </p:pic>
      <p:cxnSp>
        <p:nvCxnSpPr>
          <p:cNvPr id="378" name="Elbow Connector 46"/>
          <p:cNvCxnSpPr/>
          <p:nvPr/>
        </p:nvCxnSpPr>
        <p:spPr>
          <a:xfrm flipH="1" flipV="1" rot="5400000">
            <a:off x="4113720" y="3199680"/>
            <a:ext cx="1981800" cy="762840"/>
          </a:xfrm>
          <a:prstGeom prst="bentConnector3">
            <a:avLst>
              <a:gd name="adj1" fmla="val 92914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9" name="Straight Connector 52"/>
          <p:cNvSpPr/>
          <p:nvPr/>
        </p:nvSpPr>
        <p:spPr>
          <a:xfrm flipH="1">
            <a:off x="3809880" y="4572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80" name="Straight Arrow Connector 61"/>
          <p:cNvCxnSpPr/>
          <p:nvPr/>
        </p:nvCxnSpPr>
        <p:spPr>
          <a:xfrm flipV="1">
            <a:off x="6323040" y="3504960"/>
            <a:ext cx="2160" cy="1297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ATA ACCES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orting BL/BLB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aves are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UXing only column blocks saves 32256 xto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1523880" y="3048120"/>
            <a:ext cx="556272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ENSE AMPLIFI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600200"/>
            <a:ext cx="3581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2 Sense Amps/block colum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duce Powe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orted BL/BLB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aves are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ves 35712 xto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layed SE signal    to wait for BL/BLB dat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3524400" y="2057400"/>
            <a:ext cx="5162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RE-CHARGE BLOC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447560"/>
            <a:ext cx="3809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L/BLB short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nly require 4 pre-charge blocks as opposed to 16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ves Are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6144 xto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ierarchical pre-char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lock Select Sign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aves Powe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duces CLK signal loa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4343400" y="685800"/>
            <a:ext cx="3962520" cy="21826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"/>
          <p:cNvPicPr/>
          <p:nvPr/>
        </p:nvPicPr>
        <p:blipFill>
          <a:blip r:embed="rId2"/>
          <a:stretch/>
        </p:blipFill>
        <p:spPr>
          <a:xfrm>
            <a:off x="4572000" y="3200400"/>
            <a:ext cx="38131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ATA WRIT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600200"/>
            <a:ext cx="32767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orting BL/BLB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aves Are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ata xtors for only block colum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aves 6144 xto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lumn Block Select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aves powe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4495680" y="1219320"/>
            <a:ext cx="3726000" cy="20574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"/>
          <p:cNvPicPr/>
          <p:nvPr/>
        </p:nvPicPr>
        <p:blipFill>
          <a:blip r:embed="rId2"/>
          <a:stretch/>
        </p:blipFill>
        <p:spPr>
          <a:xfrm>
            <a:off x="4724280" y="3886200"/>
            <a:ext cx="321156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00:06:42Z</dcterms:created>
  <dc:creator>lcuser</dc:creator>
  <dc:description/>
  <dc:language>en-US</dc:language>
  <cp:lastModifiedBy>lcuser</cp:lastModifiedBy>
  <dcterms:modified xsi:type="dcterms:W3CDTF">2009-12-01T03:31:30Z</dcterms:modified>
  <cp:revision>16</cp:revision>
  <dc:subject/>
  <dc:title>Designing a Low Power SRAM for PICo </dc:title>
</cp:coreProperties>
</file>